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752013" cy="6854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5FFD-5CE3-4EC0-BD47-0E944E20A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194B-80A6-4937-A40F-1B360BB4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B83F-F6E7-4277-8DEF-C8AB50F98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5A7F-84DC-4754-B586-5B14E84A2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554E-D2A5-4BB7-B801-585770E1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A717-1BDB-4782-9B9D-54304B4B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1E19-3048-41D6-BCEB-1E7E279C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93A2-BFEA-4F84-899F-104151A1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3F52-0206-4F9A-8114-028F9939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FB4F-A65B-4F3A-9165-75E478BA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64B4-EDDF-4A64-8F17-DEB5CDF4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D69C-5BFA-416D-8AC8-35649903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C5BE-E56D-45ED-B029-5B94BFFE8B3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94920" y="620280"/>
            <a:ext cx="79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ермины  и определения или с чего начинается единое экономическое пространств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539640" y="4437000"/>
            <a:ext cx="822960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24000" y="5445000"/>
            <a:ext cx="864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ентябрь 2010 г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ый Алматинский Международный Форум по Каче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8748720" y="71280"/>
            <a:ext cx="3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2492280"/>
            <a:ext cx="0" cy="410544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6381720"/>
            <a:ext cx="3313080" cy="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53264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дел III. Меры, обеспечивающие выполнение требований к продукци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а 6. Общие положе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а 7. Стандартизация (добровольные требования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а 8. Обязательные требования к процессам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а 9. Оценка соответствия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§1.  Испыта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§2.  Контрол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§3.  Подтверждение соответстви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§4.  Аккредитаци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§5.  Одобрение (разрешение, утверждение типа и т.д.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§6.  Регистрац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§7.  Лицензирова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§8.  Прослеживаемос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§9.  Государственный контрол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а 11. Страхование гражданско-правовой ответственност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а 12. Общественный контроль (контроль потребителей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а 13. Ответственность   за   несоблюдение   законодательства   о  техническом регулировании</a:t>
            </a:r>
            <a:br>
              <a:rPr sz="1800"/>
            </a:br>
            <a:br>
              <a:rPr sz="1500"/>
            </a:b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8604360" y="7128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2565360"/>
            <a:ext cx="0" cy="388800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6308640"/>
            <a:ext cx="3313080" cy="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74880" y="4428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122040"/>
            <a:ext cx="7559640" cy="59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дел IV. Создание и совершенствование законодательства о техническом  регулировани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а 14. Общие положе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а 15. Требования к  разработке  проектов  технических  регламентов,  проектов изменений и дополнений к техническим регламентам, проектов законодательных актов об их принятии или отмене, а также требования к экспертизе и принятию технических регламентов и законодательных актов об их принятии либо отмен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а 16. Требования к  разработке проектов  стандартов,  проектов  изменений  и дополнений к ним, порядок ввода в действие или отмены стандартов, а также требования к их экспертиз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дел V. Информационное обеспечение участников системы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хнического регулирова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а 17. Общие положе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а 18. Требования к информационному     обеспечению      участников    системы технического   регулирования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дел 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Переходные положе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а 19. Переходные положе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а 20. Порядок введения в действие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6308640"/>
            <a:ext cx="3313080" cy="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2565360"/>
            <a:ext cx="0" cy="388800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8604360" y="7128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33560" y="-2700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3166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СПАСИБО ЗА ВНИМАНИЕ!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2565360"/>
            <a:ext cx="0" cy="388800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80" y="6308640"/>
            <a:ext cx="3313080" cy="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8604360" y="7128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19640" y="393372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vankravchenko.k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k@ivankravchenko.k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23640" y="691920"/>
            <a:ext cx="80643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ценка соответств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8783640" y="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2565360"/>
            <a:ext cx="0" cy="403236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6308640"/>
            <a:ext cx="3241440" cy="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484280"/>
            <a:ext cx="7272360" cy="45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ИСО/МЭК  17000-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ценка соответствия – доказательство того, что заданные требования к продукции, процессу, системе, лицу или органу выполн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ФЗ РФ «О техническом регулирован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ценка соответствия – прямое или косвенное определение соблюдения требований, предъявляемых к объек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Закон РК «О техническом регулирован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ценка соответствия – такого понятия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374880" y="4428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7775640" cy="60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дтверждение соответств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78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783640" y="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2565360"/>
            <a:ext cx="0" cy="403236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6381720"/>
            <a:ext cx="3241440" cy="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765000"/>
            <a:ext cx="7488360" cy="59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СО/МЭК 17000-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тверждение соответствия – выдача заявления, основанная на принятом после проверки решении о том, что выполнение заданных требований доказа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З РФ «О техническом регулирован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тверждение соответствия – документальное удостоверение соответствия продукции или иных объектов, процессов, проектирования (включая изыскания), производства, строительства, монтажа, наладки, эксплуатации, хранения, перевозки, реализации и утилизации, выполнения работ или оказания услуг требованиям технических регламентов, положениям стандартов, сводов правил или условиям догово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кон РК «О техническом регулирован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тверждение соответствия – процедура, результатом которой является документальное удостоверение (в виде декларации о соответствии или сертификата соответствия) соответствия объекта требованиям, установленным техническими регламентами, стандартами, или условиям догово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74880" y="4428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784872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ертификац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ИСО/МЭК 17000-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ртификация - подтверждение соответствия третьей сторон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носящееся к продукции, процессам, системам или персона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ФЗ РФ «О техническом регулирован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ртификация – форма осуществляемого органом по сертиф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тверждения соответствия объектов требованиям техниче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гламентов, положениям стандартов, сводов правил или услов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гово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Закон РК «О техническом регулирован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ртификация – процедура посредством которой орган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тверждению соответствия письменно удостоверяет соответ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дукции, услуги установленным требова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8783640" y="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565360"/>
            <a:ext cx="0" cy="403236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6308640"/>
            <a:ext cx="3313080" cy="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74880" y="4428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74170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ккредитация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ИСО/МЭК 17000-2004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ккредитация – подтверждение соответствия третьей стороной, относящееся к органу по оценке соответствия, служащее официальным доказательством  его компетентности для выполнения конкретных задач по оценке соответствия.</a:t>
            </a:r>
            <a:br>
              <a:rPr sz="1800"/>
            </a:b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ФЗ РФ «О техническом регулировании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ккредитация – официальное признание органом по аккредитации компетентности физического или юридического лица выполнять работы в определенной области оценки соответствия.</a:t>
            </a:r>
            <a:br>
              <a:rPr sz="1800"/>
            </a:b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Закон РК «О техническом регулировании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ккредитация - процедура официального признания органом по аккредитации компетентности заявителя выполнять работы в определенной сфере по подтверждению соответствия объектов технического регулирования установленным требованиям.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36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8783640" y="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349360"/>
            <a:ext cx="0" cy="417528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6308640"/>
            <a:ext cx="3168720" cy="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74880" y="4428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000" y="404640"/>
            <a:ext cx="74883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одукц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ИСО 9000-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дукция – результат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ФЗ РФ «О техническом регулирован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дукция – результат деятельности, представленный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териально-вещественной форме и предназначенный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нейш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пользования в хозяйственных и иных цел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Закон РК «О техническом регулирован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дукция – результат процесса или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8748720" y="71280"/>
            <a:ext cx="3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2492280"/>
            <a:ext cx="0" cy="417672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6453360"/>
            <a:ext cx="3313080" cy="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74880" y="4428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79218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8748720" y="71280"/>
            <a:ext cx="3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2492280"/>
            <a:ext cx="0" cy="410544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6381720"/>
            <a:ext cx="3384720" cy="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1370160"/>
            <a:ext cx="763272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ля принятия однозначно реализуемых на практике ре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жно научиться давать операционные определения вс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ючевым понятиям»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Адлер Ю.П., Шпер В.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«Кризис сквозь призму глубинных знаний»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Менеджмент качества №1, февраль 201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74880" y="4428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763272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«Соглашение о единых принципах и правилах технического регулирования в Республике Беларусь, Республики Казахстан и Российской Федерации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 создание Единого перечня продукции, в отношении которой устанавливаются обязательные треб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Статья 3 Соглаше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 ТР создаются только на продукцию включенную в Единый перечень (Статья 4 Соглаше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)  продукция в отношении которой принят ТР, выпускается в обращение только при условии, что она прошла необходимые процедуры оценки соответствия (подтвержд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Статья 6 Соглаше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)   оценка соответствия проводится в форме регистрации, испытания, подтверждения соответствия (декларирование соответствия, сертификация), экспертизы и или в иной фор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Статья 7 Соглашения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8736120" y="71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2492280"/>
            <a:ext cx="0" cy="403236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80" y="6308640"/>
            <a:ext cx="3313080" cy="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33560" y="-3348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68000" y="1557000"/>
            <a:ext cx="7488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амбула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дел I. Общие положения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а 1. Общие положения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а 2. Структура государственной системы технического регулирования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а 3. Права  и  обязанности  физических  и  юридических  лиц  в  области технического регулирования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дел II. Требования к продукции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а 4. Общие положения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а 5. Обязательные требования к продукции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§1.  Обязательные требования к продукции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§2. Обязательные требования к продукции для специальных групп потребителей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8736120" y="71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2565360"/>
            <a:ext cx="0" cy="388800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6308640"/>
            <a:ext cx="3313080" cy="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476280"/>
            <a:ext cx="7921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оект структуры закона Республики Казахстан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«О техническом регулировании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74880" y="4428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2:20:49Z</dcterms:created>
  <dc:creator> Кравченко И.М.</dc:creator>
  <dc:description/>
  <dc:language>en-US</dc:language>
  <cp:lastModifiedBy>User</cp:lastModifiedBy>
  <dcterms:modified xsi:type="dcterms:W3CDTF">2013-09-16T04:16:44Z</dcterms:modified>
  <cp:revision>228</cp:revision>
  <dc:subject/>
  <dc:title>УПРАВЛЕНИЕ ОРГАНИЗАЦИЕЙ                    НА ОСОНОВЕ СТРАТЕГИЧЕСКОГО ПЛАНИРОВАНИЯ</dc:title>
</cp:coreProperties>
</file>